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.jpeg" ContentType="image/jpeg"/>
  <Override PartName="/ppt/media/image15.wmf" ContentType="image/x-wmf"/>
  <Override PartName="/ppt/media/image6.png" ContentType="image/png"/>
  <Override PartName="/ppt/media/image14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13940-2BD7-4ACA-B08A-64AAB11A9EEB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B3958-FBFA-4DFE-AA7F-9D42C5FDEE67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6CAE6-0DB7-4D77-9B81-61953919CE67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C8828-E360-4398-B00B-A8DB3B2A70CA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23BE0-BA95-412B-A3E2-80D8DD89F350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E0EC9-7D0C-4C5E-9D8B-09D5DFA4FD37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9E674-7D20-4CB4-B6D9-6D3354CD73ED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5BD01-7675-4DCC-A57B-38255F59A61E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D0E4A-D1CD-4EEE-AB30-EDC0642A432E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A134E-A319-47F7-BFF0-F5FDB41CBAE0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8044-0D38-49DC-AA20-97A86FF4B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DFF7-97E7-4E91-B264-7AB4C9030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04A0-3F91-4376-92E8-F478764F0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D3BC-FC36-4C8F-97E6-FA5810756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DB325-E169-4B86-B73E-9D4B13FF8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76D0A-C206-4FE0-99B2-DF7555190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3E7C2-A127-4AE7-9B71-042E4DB0A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D46BE-5309-442E-A6F8-F0A256615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E97CF-F2BD-43AE-AF3D-912C66203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33C18-AF72-4073-AC1A-1EEC973B7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52D11-1732-4293-8EAF-BC817FFF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95D0-2F2C-4A07-9669-9239A3C6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178E2-C727-4512-8D43-D73578A3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8A416-DA51-4923-866C-9447029A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C6E82-AE39-4316-B26E-9DB6EFB5C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2A76B-A785-41BB-8779-489D45A52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001D6-46BF-4416-AE24-89306BBE4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F1905-202F-49FD-A884-E15CC5A24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BD9DD-460D-4E78-A26D-81268B9FA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22E39-F506-4611-AD5A-CDDC15CDD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6B5D7-E766-4066-8E3F-3AE7F71B6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0CEF8-8A60-4106-8DA3-F11B86E9D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414F-6B8C-48FB-9113-ABCA7508C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BF328-4B87-4D74-B3C2-A768ED895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693F8-C5F7-496C-B5A1-D3ED9E7B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F5E3E-5CEC-4358-81EE-AEAE3C8D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8E989-1DE4-42DF-A9B7-02A9490D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C05B0-0F5D-497C-B8BA-1A8AD7022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4B79E-21DB-4C2C-914E-54EC16425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5C896-57F0-484B-80FB-4AF6EFD17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E08B3-880F-4E3A-9E90-50CD878BD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0E3A5-5FFD-4E49-A070-B051ADF87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31486-94D2-485B-A9B3-A4262280D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A6DA-D0E0-4CF1-900C-B909DED45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3123E-71C2-473A-A658-6BA348AE0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175FB-4957-4960-B8FA-DD8E33F3B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F7935-133D-4EEE-8D0D-5E734C60A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64FAB-0A00-4616-BE3D-3A564576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716AF-4A20-48A2-8425-445496AF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DE3C0-509D-4143-A261-2D95954C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D070C-75F4-4B85-8FA5-CD5503C1F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81B09-BEDF-461F-93CE-7EEF626EB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5023D-1363-449E-8B1C-A09688B7A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714D-858A-468F-AC6A-10DF61D04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90FF-581E-4209-BE65-474133F53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DB21-91B6-42B6-B9F3-BB5BF0B0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90BB-FEDA-4B67-9195-AF11474E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7A68-8DA2-4EE2-9604-2D95DBE5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C4DA7-8921-4455-AD9B-E2FACCFEE581}" type="datetime">
              <a:rPr b="0" lang="en-CA" sz="1200" spc="-1" strike="noStrike">
                <a:solidFill>
                  <a:srgbClr val="045c75"/>
                </a:solidFill>
                <a:latin typeface="Constantia"/>
              </a:rPr>
              <a:t>26-07-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45c75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0462A-4A88-4A1D-B40C-9400F3D123F5}" type="slidenum">
              <a:rPr b="0" lang="en-C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40D90-57AC-4B7E-99C3-942D7522659A}" type="datetime">
              <a:rPr b="0" lang="en-CA" sz="1200" spc="-1" strike="noStrike">
                <a:solidFill>
                  <a:srgbClr val="d1eaee"/>
                </a:solidFill>
                <a:latin typeface="Constantia"/>
              </a:rPr>
              <a:t>26-07-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d1eaee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5477D-AC0E-499A-85CA-A5668AF0A426}" type="slidenum">
              <a:rPr b="0" lang="en-C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6EC9B-56F4-49B0-8C3B-072155C876DB}" type="datetime">
              <a:rPr b="0" lang="en-CA" sz="1200" spc="-1" strike="noStrike">
                <a:solidFill>
                  <a:srgbClr val="d1eaee"/>
                </a:solidFill>
                <a:latin typeface="Constantia"/>
              </a:rPr>
              <a:t>26-07-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d1eaee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F1AD4-665C-4A73-8A6C-2DC715E0DDBD}" type="slidenum">
              <a:rPr b="0" lang="en-C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3440-7969-40DF-888E-88F6CC58BFCD}" type="datetime">
              <a:rPr b="0" lang="en-CA" sz="1200" spc="-1" strike="noStrike">
                <a:solidFill>
                  <a:srgbClr val="045c75"/>
                </a:solidFill>
                <a:latin typeface="Constantia"/>
              </a:rPr>
              <a:t>26-07-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45c75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9A960-90F3-41AB-BC4A-CBF1D0C7E0B6}" type="slidenum">
              <a:rPr b="0" lang="en-C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384120" y="298440"/>
            <a:ext cx="7759800" cy="13222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755280" y="1197000"/>
            <a:ext cx="7201080" cy="489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Assigned work: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pg. 443 #2,3ac,5,6-9,10ae,11,12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Arial"/>
              </a:rPr>
              <a:t>Recall: We have used a </a:t>
            </a:r>
            <a:r>
              <a:rPr b="0" lang="en-CA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rection vector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Arial"/>
              </a:rPr>
              <a:t>that was parallel to the line to find an equation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449280" indent="-187200">
              <a:lnSpc>
                <a:spcPct val="9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44928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Now we will use a vector perpendicular to the line called “the Normal Vector”,     to find an equation of the line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Footer Placeholder 4"/>
          <p:cNvSpPr/>
          <p:nvPr/>
        </p:nvSpPr>
        <p:spPr>
          <a:xfrm>
            <a:off x="8028000" y="6237360"/>
            <a:ext cx="896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d1eaee"/>
                </a:solidFill>
                <a:latin typeface="Constantia"/>
              </a:rPr>
              <a:t>S. Ev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Object 5"/>
          <p:cNvGraphicFramePr/>
          <p:nvPr/>
        </p:nvGraphicFramePr>
        <p:xfrm>
          <a:off x="5724360" y="5229360"/>
          <a:ext cx="287640" cy="73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6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24360" y="5229360"/>
                    <a:ext cx="287640" cy="73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Object 6"/>
          <p:cNvGraphicFramePr/>
          <p:nvPr/>
        </p:nvGraphicFramePr>
        <p:xfrm>
          <a:off x="2916360" y="3789360"/>
          <a:ext cx="2303280" cy="860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8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16360" y="3789360"/>
                    <a:ext cx="230328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87280" y="704880"/>
            <a:ext cx="749952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8.2 Scalar or Cartesian Equation of  a Line in a Plan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24000" y="1557360"/>
            <a:ext cx="8424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calar Equation of a Line in a Plane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Footer Placeholder 7"/>
          <p:cNvSpPr/>
          <p:nvPr/>
        </p:nvSpPr>
        <p:spPr>
          <a:xfrm>
            <a:off x="8244000" y="630864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45c75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Object 17"/>
          <p:cNvGraphicFramePr/>
          <p:nvPr/>
        </p:nvGraphicFramePr>
        <p:xfrm>
          <a:off x="324000" y="4149720"/>
          <a:ext cx="7846920" cy="120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4149720"/>
                    <a:ext cx="7846920" cy="12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Object 12"/>
          <p:cNvGraphicFramePr/>
          <p:nvPr/>
        </p:nvGraphicFramePr>
        <p:xfrm>
          <a:off x="1547640" y="3141720"/>
          <a:ext cx="3745080" cy="72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3141720"/>
                    <a:ext cx="374508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87280" y="704880"/>
            <a:ext cx="749952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8.2 Scalar or Cartesian Equation of  a Line in a Plan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24000" y="155700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1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Find the scalar equation of the line that passes through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points P(8,2) and has a normal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lphaLcParenR"/>
              <a:tabLst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lphaLcParenR"/>
              <a:tabLst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lphaLcParenR"/>
              <a:tabLst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lphaLcParenR"/>
              <a:tabLst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lphaLcParenR"/>
              <a:tabLst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lphaLcParenR"/>
              <a:tabLst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lphaLcParenR"/>
              <a:tabLst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Footer Placeholder 7"/>
          <p:cNvSpPr/>
          <p:nvPr/>
        </p:nvSpPr>
        <p:spPr>
          <a:xfrm>
            <a:off x="8244000" y="630864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45c75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Object 4"/>
          <p:cNvGraphicFramePr/>
          <p:nvPr/>
        </p:nvGraphicFramePr>
        <p:xfrm>
          <a:off x="1190520" y="2951280"/>
          <a:ext cx="6504120" cy="31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0520" y="2951280"/>
                    <a:ext cx="6504120" cy="31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221" name="Straight Arrow Connector 10"/>
          <p:cNvCxnSpPr/>
          <p:nvPr/>
        </p:nvCxnSpPr>
        <p:spPr>
          <a:xfrm flipH="1">
            <a:off x="2987280" y="3789360"/>
            <a:ext cx="505440" cy="2167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graphicFrame>
        <p:nvGraphicFramePr>
          <p:cNvPr id="222" name="Object 6"/>
          <p:cNvGraphicFramePr/>
          <p:nvPr/>
        </p:nvGraphicFramePr>
        <p:xfrm>
          <a:off x="5364000" y="2349360"/>
          <a:ext cx="1513080" cy="55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64000" y="2349360"/>
                    <a:ext cx="151308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87280" y="704880"/>
            <a:ext cx="749952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8.2 Scalar or Cartesian Equation of  a Line in a Plan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24000" y="155700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2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Find the Cartesian equation of each of the following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lphaLcParenR"/>
              <a:tabLst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The line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Footer Placeholder 7"/>
          <p:cNvSpPr/>
          <p:nvPr/>
        </p:nvSpPr>
        <p:spPr>
          <a:xfrm>
            <a:off x="8244000" y="630864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45c75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Object 4"/>
          <p:cNvGraphicFramePr/>
          <p:nvPr/>
        </p:nvGraphicFramePr>
        <p:xfrm>
          <a:off x="1042920" y="2981160"/>
          <a:ext cx="5832720" cy="350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981160"/>
                    <a:ext cx="5832720" cy="35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Object 5"/>
          <p:cNvGraphicFramePr/>
          <p:nvPr/>
        </p:nvGraphicFramePr>
        <p:xfrm>
          <a:off x="2124000" y="2421000"/>
          <a:ext cx="2519280" cy="54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24000" y="2421000"/>
                    <a:ext cx="2519280" cy="54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87280" y="704880"/>
            <a:ext cx="749952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8.2 Scalar or Cartesian Equation of  a Line in a Plan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24000" y="155700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b) The line passes through (-6,3) and parallel to the line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2x-3y+5=0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Footer Placeholder 7"/>
          <p:cNvSpPr/>
          <p:nvPr/>
        </p:nvSpPr>
        <p:spPr>
          <a:xfrm>
            <a:off x="8244000" y="630864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45c75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Object 4"/>
          <p:cNvGraphicFramePr/>
          <p:nvPr/>
        </p:nvGraphicFramePr>
        <p:xfrm>
          <a:off x="2556000" y="2781360"/>
          <a:ext cx="4065480" cy="301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2781360"/>
                    <a:ext cx="4065480" cy="30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87280" y="704880"/>
            <a:ext cx="749952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8.2 Scalar or Cartesian Equation of  a Line in a Plan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Footer Placeholder 7"/>
          <p:cNvSpPr/>
          <p:nvPr/>
        </p:nvSpPr>
        <p:spPr>
          <a:xfrm>
            <a:off x="8244000" y="630864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45c75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Straight Arrow Connector 6"/>
          <p:cNvCxnSpPr/>
          <p:nvPr/>
        </p:nvCxnSpPr>
        <p:spPr>
          <a:xfrm flipV="1">
            <a:off x="2195640" y="3645000"/>
            <a:ext cx="2160" cy="2737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9" name="Straight Arrow Connector 10"/>
          <p:cNvCxnSpPr/>
          <p:nvPr/>
        </p:nvCxnSpPr>
        <p:spPr>
          <a:xfrm>
            <a:off x="2050920" y="5732640"/>
            <a:ext cx="3385440" cy="36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40" name="Straight Connector 12"/>
          <p:cNvSpPr/>
          <p:nvPr/>
        </p:nvSpPr>
        <p:spPr>
          <a:xfrm>
            <a:off x="1763640" y="3789360"/>
            <a:ext cx="3024360" cy="2376360"/>
          </a:xfrm>
          <a:prstGeom prst="line">
            <a:avLst/>
          </a:prstGeom>
          <a:ln w="255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traight Connector 19"/>
          <p:cNvSpPr/>
          <p:nvPr/>
        </p:nvSpPr>
        <p:spPr>
          <a:xfrm flipV="1">
            <a:off x="3419640" y="3644640"/>
            <a:ext cx="0" cy="14396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Object 3"/>
          <p:cNvGraphicFramePr/>
          <p:nvPr/>
        </p:nvGraphicFramePr>
        <p:xfrm>
          <a:off x="3492360" y="3500280"/>
          <a:ext cx="87948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3500280"/>
                    <a:ext cx="87948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Object 4"/>
          <p:cNvGraphicFramePr/>
          <p:nvPr/>
        </p:nvGraphicFramePr>
        <p:xfrm>
          <a:off x="3635280" y="3067200"/>
          <a:ext cx="1081080" cy="401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35280" y="3067200"/>
                    <a:ext cx="1081080" cy="40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5"/>
          <p:cNvGraphicFramePr/>
          <p:nvPr/>
        </p:nvGraphicFramePr>
        <p:xfrm>
          <a:off x="3564000" y="4581360"/>
          <a:ext cx="919080" cy="36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7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64000" y="4581360"/>
                    <a:ext cx="91908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Straight Connector 25"/>
          <p:cNvSpPr/>
          <p:nvPr/>
        </p:nvSpPr>
        <p:spPr>
          <a:xfrm flipH="1" flipV="1">
            <a:off x="2987280" y="4365360"/>
            <a:ext cx="144360" cy="14292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Object 6"/>
          <p:cNvGraphicFramePr/>
          <p:nvPr/>
        </p:nvGraphicFramePr>
        <p:xfrm>
          <a:off x="324000" y="3213000"/>
          <a:ext cx="2017440" cy="347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0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4000" y="3213000"/>
                    <a:ext cx="2017440" cy="3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251" name="Straight Arrow Connector 33"/>
          <p:cNvCxnSpPr/>
          <p:nvPr/>
        </p:nvCxnSpPr>
        <p:spPr>
          <a:xfrm flipH="1">
            <a:off x="2483640" y="3500280"/>
            <a:ext cx="2520" cy="650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52" name="TextBox 34"/>
          <p:cNvSpPr/>
          <p:nvPr/>
        </p:nvSpPr>
        <p:spPr>
          <a:xfrm>
            <a:off x="539640" y="213372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distance formula from a point,Q, to a line can be derived (below ) from the Scalar Projection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Object 7"/>
          <p:cNvGraphicFramePr/>
          <p:nvPr/>
        </p:nvGraphicFramePr>
        <p:xfrm>
          <a:off x="6875640" y="2492280"/>
          <a:ext cx="1296720" cy="536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4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75640" y="2492280"/>
                    <a:ext cx="1296720" cy="5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Straight Connector 37"/>
          <p:cNvSpPr/>
          <p:nvPr/>
        </p:nvSpPr>
        <p:spPr>
          <a:xfrm flipV="1">
            <a:off x="3419640" y="3573000"/>
            <a:ext cx="0" cy="13683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40"/>
          <p:cNvSpPr/>
          <p:nvPr/>
        </p:nvSpPr>
        <p:spPr>
          <a:xfrm flipH="1" flipV="1">
            <a:off x="2339640" y="3429000"/>
            <a:ext cx="144360" cy="712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44"/>
          <p:cNvSpPr/>
          <p:nvPr/>
        </p:nvSpPr>
        <p:spPr>
          <a:xfrm flipH="1">
            <a:off x="2987280" y="4508640"/>
            <a:ext cx="144360" cy="2156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8" name="Straight Arrow Connector 46"/>
          <p:cNvCxnSpPr/>
          <p:nvPr/>
        </p:nvCxnSpPr>
        <p:spPr>
          <a:xfrm flipV="1">
            <a:off x="2770560" y="3357360"/>
            <a:ext cx="793080" cy="12960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59" name="Oval 50"/>
          <p:cNvSpPr/>
          <p:nvPr/>
        </p:nvSpPr>
        <p:spPr>
          <a:xfrm>
            <a:off x="3348000" y="3573360"/>
            <a:ext cx="71640" cy="716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Object 8"/>
          <p:cNvGraphicFramePr/>
          <p:nvPr/>
        </p:nvGraphicFramePr>
        <p:xfrm>
          <a:off x="2771640" y="3789360"/>
          <a:ext cx="233640" cy="29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1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771640" y="3789360"/>
                    <a:ext cx="23364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87280" y="704880"/>
            <a:ext cx="749952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8.2 Scalar or Cartesian Equation of  a Line in a Plan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250920" y="1557360"/>
            <a:ext cx="842472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360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360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360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Footer Placeholder 7"/>
          <p:cNvSpPr/>
          <p:nvPr/>
        </p:nvSpPr>
        <p:spPr>
          <a:xfrm>
            <a:off x="8244000" y="630864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45c75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Object 2"/>
          <p:cNvGraphicFramePr/>
          <p:nvPr/>
        </p:nvGraphicFramePr>
        <p:xfrm>
          <a:off x="1665360" y="2060640"/>
          <a:ext cx="3371760" cy="36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5360" y="2060640"/>
                    <a:ext cx="337176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87280" y="704880"/>
            <a:ext cx="749952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8.2 Scalar or Cartesian Equation of  a Line in a Plan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24000" y="155700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360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360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istance Formula from a point (x</a:t>
            </a:r>
            <a:r>
              <a:rPr b="0" lang="en-CA" sz="2400" spc="-1" strike="noStrike" u="sng" baseline="-25000">
                <a:solidFill>
                  <a:srgbClr val="000000"/>
                </a:solidFill>
                <a:uFillTx/>
                <a:latin typeface="Arial"/>
                <a:ea typeface="Arial"/>
              </a:rPr>
              <a:t>1,</a:t>
            </a:r>
            <a:r>
              <a:rPr b="0" lang="en-C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y</a:t>
            </a:r>
            <a:r>
              <a:rPr b="0" lang="en-CA" sz="2400" spc="-1" strike="noStrike" u="sng" baseline="-25000">
                <a:solidFill>
                  <a:srgbClr val="000000"/>
                </a:solidFill>
                <a:uFillTx/>
                <a:latin typeface="Arial"/>
                <a:ea typeface="Arial"/>
              </a:rPr>
              <a:t>1 </a:t>
            </a:r>
            <a:r>
              <a:rPr b="0" lang="en-C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) to the line Ax+By+Cz=0 i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360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360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360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360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360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360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Footer Placeholder 7"/>
          <p:cNvSpPr/>
          <p:nvPr/>
        </p:nvSpPr>
        <p:spPr>
          <a:xfrm>
            <a:off x="8244000" y="630864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45c75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Object 2"/>
          <p:cNvGraphicFramePr/>
          <p:nvPr/>
        </p:nvGraphicFramePr>
        <p:xfrm>
          <a:off x="1763640" y="3357720"/>
          <a:ext cx="3741840" cy="14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3357720"/>
                    <a:ext cx="3741840" cy="14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87280" y="704880"/>
            <a:ext cx="749952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8.2 Scalar or Cartesian Equation of  a Line in a Plan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24000" y="155700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 3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Find the distance from P(-4,2) to the line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Footer Placeholder 7"/>
          <p:cNvSpPr/>
          <p:nvPr/>
        </p:nvSpPr>
        <p:spPr>
          <a:xfrm>
            <a:off x="8244000" y="630864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45c75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Object 2"/>
          <p:cNvGraphicFramePr/>
          <p:nvPr/>
        </p:nvGraphicFramePr>
        <p:xfrm>
          <a:off x="1979640" y="2709720"/>
          <a:ext cx="4187880" cy="394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709720"/>
                    <a:ext cx="4187880" cy="394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Object 3"/>
          <p:cNvGraphicFramePr/>
          <p:nvPr/>
        </p:nvGraphicFramePr>
        <p:xfrm>
          <a:off x="6012000" y="2019240"/>
          <a:ext cx="2125440" cy="46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2000" y="2019240"/>
                    <a:ext cx="212544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1T17:07:38Z</dcterms:created>
  <dc:creator>sandy</dc:creator>
  <dc:description/>
  <dc:language>en-US</dc:language>
  <cp:lastModifiedBy>sandy</cp:lastModifiedBy>
  <dcterms:modified xsi:type="dcterms:W3CDTF">2010-12-07T21:09:32Z</dcterms:modified>
  <cp:revision>257</cp:revision>
  <dc:subject/>
  <dc:title>2.2 Derivatives of Polynomial Functions</dc:title>
</cp:coreProperties>
</file>